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64CE-DB4C-4B24-A873-C5996089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1499-2974-47C8-8370-81FD41DC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5FA-CC50-453A-9D66-64486140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3A6-57A5-4931-9EA3-50522C41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BFD-F1B2-473C-B913-804BD0C3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D17-E5B3-4E96-8625-8F70F99A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8CB-97B1-46AA-B9BD-C33A0210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2CD-7407-49EF-97DB-3953BFA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56E-6C86-498F-A592-DD0A647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7E4-4DE5-4FAC-80BA-21611C6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4D0-641C-46A3-B4AE-E2E6D1A7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C26-03F9-411E-BDCA-EC56AE7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EBB-9DB1-43E8-966B-055384B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634-2887-4619-8202-12C047B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F70-5962-4D80-8274-5D8528C34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ooper Black"/>
              </a:rPr>
              <a:t>Ancient Greec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f1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ulia Broad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1.gstatic.com/images?q=tbn:ANd9GcQLNrIImST97jqJotoYRRTpEPrIWRbGIO6wXMSy3bGG4o47Gp6-lA"/>
          <p:cNvPicPr/>
          <p:nvPr/>
        </p:nvPicPr>
        <p:blipFill>
          <a:blip r:embed="rId1"/>
          <a:stretch/>
        </p:blipFill>
        <p:spPr>
          <a:xfrm rot="20608200">
            <a:off x="555480" y="66816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t3.gstatic.com/images?q=tbn:ANd9GcQevod2Wgy_ld-EDp8PKzQBMZS1Ztdmv20APzAdXiWBIB8658LA"/>
          <p:cNvPicPr/>
          <p:nvPr/>
        </p:nvPicPr>
        <p:blipFill>
          <a:blip r:embed="rId2"/>
          <a:stretch/>
        </p:blipFill>
        <p:spPr>
          <a:xfrm rot="1391400">
            <a:off x="6664320" y="577800"/>
            <a:ext cx="18208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209680" y="1143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Greek city-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t2.gstatic.com/images?q=tbn:ANd9GcSscfcahPsEMIOPm9cS9lOBc56hHCi2AhgNvEVaRmt6EUP9yucqqA"/>
          <p:cNvPicPr/>
          <p:nvPr/>
        </p:nvPicPr>
        <p:blipFill>
          <a:blip r:embed="rId1"/>
          <a:stretch/>
        </p:blipFill>
        <p:spPr>
          <a:xfrm>
            <a:off x="2438280" y="2590920"/>
            <a:ext cx="48769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219320" y="1295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study of wisdom and the right way to l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3360" y="-90180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3360" y="-90180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untitled.bmp"/>
          <p:cNvPicPr/>
          <p:nvPr/>
        </p:nvPicPr>
        <p:blipFill>
          <a:blip r:embed="rId1"/>
          <a:stretch/>
        </p:blipFill>
        <p:spPr>
          <a:xfrm>
            <a:off x="2743200" y="2895480"/>
            <a:ext cx="43149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523880" y="1295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n area of land nearly surrounded by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bb.bmp"/>
          <p:cNvPicPr/>
          <p:nvPr/>
        </p:nvPicPr>
        <p:blipFill>
          <a:blip r:embed="rId1"/>
          <a:stretch/>
        </p:blipFill>
        <p:spPr>
          <a:xfrm>
            <a:off x="1371600" y="3124080"/>
            <a:ext cx="3581280" cy="248760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2438280" y="3581280"/>
            <a:ext cx="2667240" cy="16002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6212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The kind of government that is run by a small group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jbjb.bmp"/>
          <p:cNvPicPr/>
          <p:nvPr/>
        </p:nvPicPr>
        <p:blipFill>
          <a:blip r:embed="rId1"/>
          <a:stretch/>
        </p:blipFill>
        <p:spPr>
          <a:xfrm>
            <a:off x="2209680" y="3429000"/>
            <a:ext cx="44341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95280" y="1295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sheltered place along a coas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jbh.jpg"/>
          <p:cNvPicPr/>
          <p:nvPr/>
        </p:nvPicPr>
        <p:blipFill>
          <a:blip r:embed="rId1"/>
          <a:stretch/>
        </p:blipFill>
        <p:spPr>
          <a:xfrm>
            <a:off x="2971800" y="28954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://t2.gstatic.com/images?q=tbn:ANd9GcR6WQFZPTmgNkpCObs_th6nXNjc-GyI_A548Zs4Mo05NkqKSu-ytw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A place where Greeks meet and con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0.gstatic.com/images?q=tbn:ANd9GcTeWGIsv-XuhjATLENciyF8DPq73gO2KxbjDMWl1_Z3nZQI6Azq"/>
          <p:cNvPicPr/>
          <p:nvPr/>
        </p:nvPicPr>
        <p:blipFill>
          <a:blip r:embed="rId1"/>
          <a:stretch/>
        </p:blipFill>
        <p:spPr>
          <a:xfrm>
            <a:off x="2209680" y="2438280"/>
            <a:ext cx="52578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oper Black"/>
              </a:rPr>
              <a:t>A lawmaking place where people voted on issues that helped their city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1.gstatic.com/images?q=tbn:ANd9GcRA90SkPU5M7NScxdih0Mws6uMJsExNtEB7_-hmyukPgJSYpzjC"/>
          <p:cNvPicPr/>
          <p:nvPr/>
        </p:nvPicPr>
        <p:blipFill>
          <a:blip r:embed="rId1"/>
          <a:stretch/>
        </p:blipFill>
        <p:spPr>
          <a:xfrm>
            <a:off x="2209680" y="2895480"/>
            <a:ext cx="472464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752480" y="14479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oper Black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2189160" y="3956040"/>
            <a:ext cx="47242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160020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ff"/>
                </a:solidFill>
                <a:latin typeface="Jokerman"/>
              </a:rPr>
              <a:t>Col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914400" y="9907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group of people who lived apart from Greece but kept economic ties with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3.gstatic.com/images?q=tbn:ANd9GcRM4fguvp5V-POBsb5SO5UAdqSpRF3FVpHs9jVRnEUREk5vyeAy"/>
          <p:cNvPicPr/>
          <p:nvPr/>
        </p:nvPicPr>
        <p:blipFill>
          <a:blip r:embed="rId1"/>
          <a:stretch/>
        </p:blipFill>
        <p:spPr>
          <a:xfrm>
            <a:off x="762120" y="3962520"/>
            <a:ext cx="3456000" cy="2381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715000" y="35053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quals th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l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rved Down Arrow 6"/>
          <p:cNvSpPr/>
          <p:nvPr/>
        </p:nvSpPr>
        <p:spPr>
          <a:xfrm>
            <a:off x="3581280" y="2895480"/>
            <a:ext cx="2286000" cy="1295640"/>
          </a:xfrm>
          <a:custGeom>
            <a:avLst/>
            <a:gdLst>
              <a:gd name="textAreaLeft" fmla="*/ 450000 w 2286000"/>
              <a:gd name="textAreaRight" fmla="*/ 1674000 w 228600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5" hR="21600" stAng="10800000" swAng="5400000"/>
                <a:lnTo>
                  <a:pt x="11565" y="0"/>
                </a:lnTo>
                <a:arcTo wR="8505" hR="21600" stAng="-5400000" swAng="3404725"/>
                <a:lnTo>
                  <a:pt x="21330" y="16200"/>
                </a:lnTo>
                <a:lnTo>
                  <a:pt x="18540" y="21600"/>
                </a:lnTo>
                <a:lnTo>
                  <a:pt x="15210" y="16200"/>
                </a:lnTo>
                <a:lnTo>
                  <a:pt x="16740" y="16200"/>
                </a:lnTo>
                <a:arcTo wR="8505" hR="21600" stAng="-1995275" swAng="-3157606"/>
                <a:lnTo>
                  <a:pt x="10035" y="352"/>
                </a:lnTo>
                <a:arcTo wR="8505" hR="21600" stAng="-5647119" swAng="-5152881"/>
                <a:close/>
              </a:path>
              <a:path fill="darkenLess" w="21600" h="21600">
                <a:moveTo>
                  <a:pt x="0" y="21600"/>
                </a:moveTo>
                <a:arcTo wR="8505" hR="21600" stAng="10800000" swAng="5400000"/>
                <a:lnTo>
                  <a:pt x="8505" y="0"/>
                </a:lnTo>
                <a:arcTo wR="8505" hR="21600" stAng="-5400000" swAng="247119"/>
                <a:lnTo>
                  <a:pt x="10035" y="352"/>
                </a:lnTo>
                <a:arcTo wR="8505" hR="21600" stAng="-5647119" swAng="-5152881"/>
                <a:close/>
              </a:path>
            </a:pathLst>
          </a:cu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Jokerman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752480" y="13716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A form of government where people vote to make deci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2971800" y="3657600"/>
            <a:ext cx="3657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0880" y="1447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They hear evidence and make decisions in a court of l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326880"/>
            <a:ext cx="127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360" y="-326880"/>
            <a:ext cx="127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3360" y="-754200"/>
            <a:ext cx="2914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3360" y="-754200"/>
            <a:ext cx="2914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1752480" y="3290760"/>
            <a:ext cx="57150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57200" y="1295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Government headed by one ru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2.gstatic.com/images?q=tbn:ANd9GcSJBIFUnQOBX4rJumWfLgSCiwUvWP3PAu4-F2VJfVD5r6qZUIyI"/>
          <p:cNvPicPr/>
          <p:nvPr/>
        </p:nvPicPr>
        <p:blipFill>
          <a:blip r:embed="rId1"/>
          <a:stretch/>
        </p:blipFill>
        <p:spPr>
          <a:xfrm>
            <a:off x="2209680" y="3733920"/>
            <a:ext cx="4724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6T00:03:12Z</dcterms:modified>
  <cp:revision>91</cp:revision>
  <dc:subject/>
  <dc:title>Ancient Greece</dc:title>
</cp:coreProperties>
</file>